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B262-BE13-4F1A-805A-09E980BAC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8BE2-BDB4-45C6-AB02-0320560E9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31B-D7FF-46F1-9B08-18365B38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790-B7F5-43AB-B4A9-48A0379C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E19-A198-451C-AECD-69E0F2B8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B47-D5D4-4826-9587-DBDE00DB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DC7-5BF3-44B2-AF32-8B29C526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1D8-58C2-4A14-BD31-C31CD3DC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6AA-534A-409A-A177-115E16C7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AE3-C694-4820-8D4E-FB7A5E54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76B-5055-43F3-A93D-75678149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B1E-5529-4FBD-A0F4-62E9CEA5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339-09BE-45DB-8CF9-9314F919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21D-ECAF-41B9-93D9-CD924469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1F91-47A6-4BA0-B22B-D2ACF0E86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oselly Ju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oselly Juar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oselly Juarez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oselly Juar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5146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Tardes, Yo quiero bailo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alva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e llamo Joselly.  Yo vivo en la ciudad Astoria.  Tengo catorse años.  Yo no tengo hermanos. Soy simpatica y muy perezos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066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09880"/>
            <a:ext cx="3429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! Tengo mucho tare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124080"/>
            <a:ext cx="3657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ías, quiero va al par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m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u está loca.                                                                                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Hola, cuantos tareas tenemos?                                         Salv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s muy fastidioso.                                                                                      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uantos años tienes? ¿Cuatro?                                                          Salv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19320" y="5105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assm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838080" y="60958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z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9:12Z</dcterms:modified>
  <cp:revision>106</cp:revision>
  <dc:subject/>
  <dc:title>Profile</dc:title>
</cp:coreProperties>
</file>